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gif" ContentType="image/gif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D472-7C3B-4518-AFCB-A43E9461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F867-D758-488D-80BA-14E467E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A0AA-1776-46BF-989E-A02B3FB5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6012-DA88-4A0B-BF20-CA996D5F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2D90-4130-4B0E-A5D9-3C21819D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6FA6-4D91-4049-9422-0D1874D4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5F01-C0E6-4FC7-8E0C-C34EC3BA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4F79-6D91-4B89-A999-CB5D4FAB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CB32-1DDA-4E2E-B6ED-7B6396C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D639-45FF-4078-A533-7ABFF160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1E8-70D8-4840-A58E-B363379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F133-6A56-4917-BBC6-30C7C68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E496-FEFD-4833-B29E-F773DB6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9FB2-A73A-489A-8B6B-AF83549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F3B3-00CC-454B-BAD6-9CC10A21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0EE3-6CB2-4579-A100-EE4410A1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F72E-46D0-41EA-9D70-23DD3AE4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CD32-AC41-4ABD-8266-39201AEF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528D-EBE3-4033-A43E-7BB08ADE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50E2-D048-4DD6-A528-09710A1A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59B4-9328-4CBF-8FEB-F3469555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3E43-CDDD-4AEB-9C1F-3CE0FC5F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95CE-0767-4190-BC55-84EBA9F0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CE51-2283-4D5C-B7BF-22579CFA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5C6B-CB34-4292-B59A-A279925B7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2F5E-C351-4EF0-A231-B9BEFE56E3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ru-RU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ff"/>
                </a:solidFill>
                <a:latin typeface="Garamond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7" descr="school06-06"/>
          <p:cNvPicPr/>
          <p:nvPr/>
        </p:nvPicPr>
        <p:blipFill>
          <a:blip r:embed="rId1"/>
          <a:stretch/>
        </p:blipFill>
        <p:spPr>
          <a:xfrm rot="16642200">
            <a:off x="770760" y="1289520"/>
            <a:ext cx="227484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school10-08"/>
          <p:cNvPicPr/>
          <p:nvPr/>
        </p:nvPicPr>
        <p:blipFill>
          <a:blip r:embed="rId2"/>
          <a:stretch/>
        </p:blipFill>
        <p:spPr>
          <a:xfrm>
            <a:off x="6227640" y="620640"/>
            <a:ext cx="21607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48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4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school05-14"/>
          <p:cNvPicPr/>
          <p:nvPr/>
        </p:nvPicPr>
        <p:blipFill>
          <a:blip r:embed="rId1"/>
          <a:stretch/>
        </p:blipFill>
        <p:spPr>
          <a:xfrm>
            <a:off x="2411280" y="4724280"/>
            <a:ext cx="438156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6" descr="MC900295709[1]"/>
          <p:cNvPicPr/>
          <p:nvPr/>
        </p:nvPicPr>
        <p:blipFill>
          <a:blip r:embed="rId1"/>
          <a:stretch/>
        </p:blipFill>
        <p:spPr>
          <a:xfrm>
            <a:off x="6670800" y="1052640"/>
            <a:ext cx="2222280" cy="144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MM900236274[1]"/>
          <p:cNvPicPr/>
          <p:nvPr/>
        </p:nvPicPr>
        <p:blipFill>
          <a:blip r:embed="rId2"/>
          <a:stretch/>
        </p:blipFill>
        <p:spPr>
          <a:xfrm>
            <a:off x="6443640" y="534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900282166[1]"/>
          <p:cNvPicPr/>
          <p:nvPr/>
        </p:nvPicPr>
        <p:blipFill>
          <a:blip r:embed="rId3"/>
          <a:stretch/>
        </p:blipFill>
        <p:spPr>
          <a:xfrm>
            <a:off x="0" y="1052640"/>
            <a:ext cx="1692360" cy="138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3600"/>
            </a:b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53" descr="ratatouille10"/>
          <p:cNvPicPr/>
          <p:nvPr/>
        </p:nvPicPr>
        <p:blipFill>
          <a:blip r:embed="rId1"/>
          <a:stretch/>
        </p:blipFill>
        <p:spPr>
          <a:xfrm>
            <a:off x="5580000" y="2205000"/>
            <a:ext cx="3317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844640"/>
          <a:ext cx="5000400" cy="48182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50" descr="school10-03"/>
          <p:cNvPicPr/>
          <p:nvPr/>
        </p:nvPicPr>
        <p:blipFill>
          <a:blip r:embed="rId1"/>
          <a:stretch/>
        </p:blipFill>
        <p:spPr>
          <a:xfrm>
            <a:off x="5651640" y="1773360"/>
            <a:ext cx="3257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MC900240685[1]"/>
          <p:cNvPicPr/>
          <p:nvPr/>
        </p:nvPicPr>
        <p:blipFill>
          <a:blip r:embed="rId1"/>
          <a:stretch/>
        </p:blipFill>
        <p:spPr>
          <a:xfrm>
            <a:off x="6516720" y="4000680"/>
            <a:ext cx="24480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school08-02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school02-28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school10-04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 каких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источниках впервые упоминается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6" descr="school05-05"/>
          <p:cNvPicPr/>
          <p:nvPr/>
        </p:nvPicPr>
        <p:blipFill>
          <a:blip r:embed="rId1"/>
          <a:stretch/>
        </p:blipFill>
        <p:spPr>
          <a:xfrm>
            <a:off x="6659640" y="5373720"/>
            <a:ext cx="2295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ru-RU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school02-04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ru-RU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school10-04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school06-17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7570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school10-06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chool08-01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school10-01"/>
          <p:cNvPicPr/>
          <p:nvPr/>
        </p:nvPicPr>
        <p:blipFill>
          <a:blip r:embed="rId1"/>
          <a:stretch/>
        </p:blipFill>
        <p:spPr>
          <a:xfrm>
            <a:off x="900000" y="3789360"/>
            <a:ext cx="3810240" cy="288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chool11-15"/>
          <p:cNvPicPr/>
          <p:nvPr/>
        </p:nvPicPr>
        <p:blipFill>
          <a:blip r:embed="rId2"/>
          <a:stretch/>
        </p:blipFill>
        <p:spPr>
          <a:xfrm>
            <a:off x="4716360" y="3357720"/>
            <a:ext cx="3527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ff"/>
                </a:solidFill>
                <a:uFillTx/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1557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school12-05"/>
          <p:cNvPicPr/>
          <p:nvPr/>
        </p:nvPicPr>
        <p:blipFill>
          <a:blip r:embed="rId1"/>
          <a:stretch/>
        </p:blipFill>
        <p:spPr>
          <a:xfrm>
            <a:off x="5435640" y="1844640"/>
            <a:ext cx="370836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Admin</cp:lastModifiedBy>
  <dcterms:modified xsi:type="dcterms:W3CDTF">2010-05-28T08:56:26Z</dcterms:modified>
  <cp:revision>11</cp:revision>
  <dc:subject/>
  <dc:title>Зачем нужны дроби?</dc:title>
</cp:coreProperties>
</file>